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622-F9F4-4972-B0AB-9A0CE488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E95-25E6-4C87-A5F2-8342FF56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536-D0C6-4132-A35C-FC8DC00D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971-2210-4C86-BE2F-21EB60CE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3F7-33CF-48C5-8F87-EF7E77C8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06-30E2-4130-B25E-CD92F6A2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7C6-2B08-4A70-821E-F5A19DC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417-8A3A-471D-A4D9-4EEFDE0C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FB6-3DF9-4006-9015-F1E808E5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E3D-B7D1-426D-B092-29BEDA8D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D0D-81FB-417A-B79F-4C9603F2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22E-D3C0-4EA1-84BF-95F203C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BC9-42B8-4CFD-9730-2662E50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3A2-6550-4043-AC25-763A178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C56-7B03-4119-8949-0EDC84779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05-13T16:53:43Z</dcterms:modified>
  <cp:revision>86</cp:revision>
  <dc:subject/>
  <dc:title>CRS Chapter 4</dc:title>
</cp:coreProperties>
</file>